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E18-B56C-43F6-B7AE-D2AF688D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E15-DA3A-4675-993B-73975C04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887-9D58-4273-9406-91A91AB3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6AA-EE80-4A9E-B6B2-F1D72CC9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736-6249-422C-BE15-7FC42EFC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26F-E763-4763-A86E-62BD539A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815-F8E6-4565-8D5C-A30624F0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B8-CBCB-4141-81D8-D987CEE9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122-F4F3-4B21-8933-FE8D41D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37C-249B-4A19-9761-59916F0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8DB-D827-4474-9E61-87A6F2A9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999-62A3-436A-8EB2-3356648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6476760"/>
            <a:ext cx="23986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120" y="6476760"/>
            <a:ext cx="3940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4760" y="6476760"/>
            <a:ext cx="17096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7E89-540A-4E5D-8278-31B85DAE3576}" type="slidenum">
              <a:rPr b="0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5840" y="6411960"/>
            <a:ext cx="30168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219320"/>
            <a:ext cx="2363760" cy="39621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3120" y="2895480"/>
            <a:ext cx="6604200" cy="3200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9400" y="1582200"/>
            <a:ext cx="76788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asia.fdi.ucm.es/" TargetMode="External"/><Relationship Id="rId2" Type="http://schemas.openxmlformats.org/officeDocument/2006/relationships/hyperlink" Target="http://grasia.fdi.ucm.es/" TargetMode="External"/><Relationship Id="rId3" Type="http://schemas.openxmlformats.org/officeDocument/2006/relationships/hyperlink" Target="http://grasia.fdi.ucm.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sia.fdi.ucm.es/ingenias/metamode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65240" y="2860560"/>
            <a:ext cx="64929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Grupo de Agentes Software: Ingeniería y Aplicacion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rasia.fdi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uan Pavón, Jorge J. Gómez Sanz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pavon, jjgomez@sip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85840" y="4765680"/>
            <a:ext cx="6324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Dep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Sistemas Informáticos y Progra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Facultad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de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692280"/>
            <a:ext cx="866880" cy="952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723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92920"/>
            <a:ext cx="833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01280" y="1447560"/>
            <a:ext cx="80614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defines the elements available for modelling in the INGENIAS Development Kit (ID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rrent version of the meta-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ckage structure to organize its con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loser to M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t is not clear what means MOF-compliant today. XMI is not enou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ighlights the importance of having diagrams as first class citiz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1270080" y="5524560"/>
            <a:ext cx="6842160" cy="501480"/>
          </a:xfrm>
          <a:custGeom>
            <a:avLst/>
            <a:gdLst>
              <a:gd name="textAreaLeft" fmla="*/ 32400 w 6842160"/>
              <a:gd name="textAreaRight" fmla="*/ 6809760 w 68421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94513" h="21600">
                <a:moveTo>
                  <a:pt x="0" y="0"/>
                </a:moveTo>
                <a:lnTo>
                  <a:pt x="294513" y="0"/>
                </a:lnTo>
                <a:lnTo>
                  <a:pt x="294513" y="21600"/>
                </a:lnTo>
                <a:lnTo>
                  <a:pt x="0" y="21600"/>
                </a:lnTo>
                <a:close/>
              </a:path>
              <a:path fill="lightenLess" w="294513" h="21600">
                <a:moveTo>
                  <a:pt x="0" y="0"/>
                </a:moveTo>
                <a:lnTo>
                  <a:pt x="294513" y="0"/>
                </a:lnTo>
                <a:lnTo>
                  <a:pt x="293113" y="1400"/>
                </a:lnTo>
                <a:lnTo>
                  <a:pt x="1400" y="1400"/>
                </a:lnTo>
                <a:close/>
              </a:path>
              <a:path fill="darken" w="294513" h="21600">
                <a:moveTo>
                  <a:pt x="294513" y="0"/>
                </a:moveTo>
                <a:lnTo>
                  <a:pt x="294513" y="21600"/>
                </a:lnTo>
                <a:lnTo>
                  <a:pt x="293113" y="20200"/>
                </a:lnTo>
                <a:lnTo>
                  <a:pt x="293113" y="1400"/>
                </a:lnTo>
                <a:close/>
              </a:path>
              <a:path fill="darkenLess" w="294513" h="21600">
                <a:moveTo>
                  <a:pt x="29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13" y="20200"/>
                </a:lnTo>
                <a:close/>
              </a:path>
              <a:path fill="lighten" w="29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13" h="21600">
                <a:moveTo>
                  <a:pt x="140250" y="3794"/>
                </a:moveTo>
                <a:lnTo>
                  <a:pt x="154263" y="10800"/>
                </a:lnTo>
                <a:lnTo>
                  <a:pt x="140250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78B-98B5-48DA-8AC8-5926FFDE12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tarting poi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meta-model is not suitable as programming language: it is semi-f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can be made formal (non ambiguo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eate a visual programming languag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ll it be better with such language than with a conventional programming langu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ftware engineering says that successul modelling languages are ambig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can be applied in a wider range of doma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nalysts can model with more freed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requires an extra effort in explaining to readers what a concrete model is intented to m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FB2-37F1-4517-8C9A-ADADB49419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Challenges in developing a meta-mod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 the meta-model with different dom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ing it at high-level / platform indepen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eful for both researchers  and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BFD-ACE8-4095-AF24-8DF58D12DE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Our approach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, testing,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Keep the meta-model simple, with few high level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tending the metamodel first with specialization and then with 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vide tools for using the meta-models: ID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de generation facilities that implement the semantics that the developer requ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ols that help to customize code generation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68800" y="5087880"/>
            <a:ext cx="2579400" cy="898560"/>
          </a:xfrm>
          <a:custGeom>
            <a:avLst/>
            <a:gdLst>
              <a:gd name="textAreaLeft" fmla="*/ 57960 w 2579400"/>
              <a:gd name="textAreaRight" fmla="*/ 2521440 w 25794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61989" h="21600">
                <a:moveTo>
                  <a:pt x="0" y="0"/>
                </a:moveTo>
                <a:lnTo>
                  <a:pt x="61989" y="0"/>
                </a:lnTo>
                <a:lnTo>
                  <a:pt x="61989" y="21600"/>
                </a:lnTo>
                <a:lnTo>
                  <a:pt x="0" y="21600"/>
                </a:lnTo>
                <a:close/>
              </a:path>
              <a:path fill="lightenLess" w="61989" h="21600">
                <a:moveTo>
                  <a:pt x="0" y="0"/>
                </a:moveTo>
                <a:lnTo>
                  <a:pt x="61989" y="0"/>
                </a:lnTo>
                <a:lnTo>
                  <a:pt x="60589" y="1400"/>
                </a:lnTo>
                <a:lnTo>
                  <a:pt x="1400" y="1400"/>
                </a:lnTo>
                <a:close/>
              </a:path>
              <a:path fill="darken" w="61989" h="21600">
                <a:moveTo>
                  <a:pt x="61989" y="0"/>
                </a:moveTo>
                <a:lnTo>
                  <a:pt x="61989" y="21600"/>
                </a:lnTo>
                <a:lnTo>
                  <a:pt x="60589" y="20200"/>
                </a:lnTo>
                <a:lnTo>
                  <a:pt x="60589" y="1400"/>
                </a:lnTo>
                <a:close/>
              </a:path>
              <a:path fill="darkenLess" w="61989" h="21600">
                <a:moveTo>
                  <a:pt x="61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589" y="20200"/>
                </a:lnTo>
                <a:close/>
              </a:path>
              <a:path fill="lighten" w="61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989" h="21600">
                <a:moveTo>
                  <a:pt x="23988" y="3794"/>
                </a:moveTo>
                <a:lnTo>
                  <a:pt x="38001" y="10800"/>
                </a:lnTo>
                <a:lnTo>
                  <a:pt x="23988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682-0240-46A5-AB79-801A314545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3:28:15Z</dcterms:created>
  <dc:creator>Juan Pavón Mestras</dc:creator>
  <dc:description/>
  <dc:language>en-US</dc:language>
  <cp:lastModifiedBy>JPM</cp:lastModifiedBy>
  <dcterms:modified xsi:type="dcterms:W3CDTF">2005-02-24T14:43:58Z</dcterms:modified>
  <cp:revision>20</cp:revision>
  <dc:subject/>
  <dc:title>Valladolid Meeting 18 dec. 2002</dc:title>
</cp:coreProperties>
</file>