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33EA-8CDC-4901-9EE2-BEF895DBAE2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am Luca Sabatucci from the University of Paler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 will present th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SSI and Agile PASSI MAS meta-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sult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MAS Meta Model obtained for Agile PASS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is possible to observe that th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 of agen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s chang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ole element exists no more: an agent now is directly composed by ta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have seen how the PASSI and Agile PASSI MAS Meta Models are splitted in three do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blem Domain addresses user’s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gency Domain addresses agency based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ution Domain addresses code level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 have also observed that the Agile PASSI MMM is a subset of the PASSI MMM but some elements are defined in a different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is presentation we discuss about: the structure of PASSI MAS Meta-Model, the elements of PASSI and Agile PASSI MAS Meta-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tructure of the PASSI MAS Meta-Model addresses three logical areas that we have named Problem, Agency and Solution do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blem Domain deals with the user's problem referring terms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enari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quirem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ntology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ncy Domain contains the components of the agent-based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Domain describes the structure of the code solution in the chosen FIPA-compliant implementation platform. We use terms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PA-Platform Age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PA-Platform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we have an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of the PASSI MAS Meta-Model. The three differe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rea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presents the three domai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we can aspect there is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crease of abstra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going from the problem to the solution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e following slides we will analyze these domains separ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e we have the Problem Domain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irem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presents a feature of the system. it may be functional (like a service) or non-functional (like a performance constra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feature of PASSI process is th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nt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it is composed by concepts, actions and predic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n entity of the system domai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the operations that it is possible to perform to change the state of concept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edicat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rtion about the state of certain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ity of the system that can be acquired, shared, or manipulated by the ag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Agency Domain contains the components of the agent-based solution. None of these is directly implem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ASSI a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n entity responsible for accomplishing some functionalities. It lives in an environment. It is capable to perform some actions and to participate in collaborations with other ag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gent, during its life, plays some roles. 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r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portion of its social behaviour. While playing a role, an agent activates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as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produce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rvi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participate i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order to reach it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go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the core unit for agent behavior. It is an aggregation of atomic 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i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ty that an agent offer to the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dopted in PASSI use a FIPA-compliant structur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ASSI agent and task have a correspondent element in the solution domain. The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IPA platform agent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 the class that implements the agent element, while the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FIPA platform task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is the class that implements the task of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ile PASSI has been obtained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us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me parts of the PASSI process. We have created it in according to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gile Princi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it is easy to use and it is code orie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build Agile PASSI we started from PASSI MAS Meta Model. In this model we have reduced the number of elements according to Agile Principle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moved terms as Scenario, Resource, Roles... in order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ort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proc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ew MAS Meta Model we have maintained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quireme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at are the base for agents identification. Besides, we have not changed the fundamental role of 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ntolo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3BF-F6A0-49CE-A40F-A1849702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3D9-3DB7-4389-A5E5-0DB8BF69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734-41BE-468F-AE93-D6053A13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9A1-A77F-4E8F-96CE-365591D5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39D5-37AC-4D0A-A734-8E20CA50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D16D-9584-4EA9-B8A0-7D8E432D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FDAA-FEA9-4618-B4E7-113555C5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F67F-3ACB-4BE8-977A-47AD9A59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B3FE-91A6-4C42-BD9E-18648C08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3C2A-CCF6-45DD-B018-0C60EDED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7D02-7080-4FDA-B371-04685370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3414-A46B-4A00-90F9-AACEFAFA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C0CF-81B3-49B7-8C4D-35E8F615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43D2-7B74-4255-9A0C-F38A4B10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C913-3B3E-4078-B3B7-8ED28705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9281-7D48-457E-B0E2-5688912D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A3A0-A54B-4DEB-975D-AE15D864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846-0B3D-4BFA-9D50-CCACEC02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094-32A6-4877-8862-DC9F2086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B9F-536D-42BE-A621-C5037FBC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1FA-884A-4598-A831-3B6A0D9C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AD0-D399-44A9-ABB5-96D9456C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4A04-9A13-47D3-B83E-2274988D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D17-D5EA-4AC0-9B9E-D061268B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0872-D51B-41CB-A7D0-6DE29EA7F616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2C37-D880-4D72-BCDC-5AE4E6E82A3C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PASSI and Agile PASSI </a:t>
            </a:r>
            <a:br>
              <a:rPr sz="4000"/>
            </a:br>
            <a:r>
              <a:rPr b="0" lang="de-DE" sz="4000" spc="-1" strike="noStrike">
                <a:solidFill>
                  <a:srgbClr val="333399"/>
                </a:solidFill>
                <a:latin typeface="Tahoma"/>
              </a:rPr>
              <a:t>MAS meta-mode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5280" y="3499920"/>
            <a:ext cx="841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. Chell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(1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M. Cossentino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(2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Tahoma"/>
              </a:rPr>
              <a:t>L. Sabatucci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(1)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V. Seidita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03200" y="4149720"/>
            <a:ext cx="8272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. Dipartimento di Ingegneria Informatica (DINFO) - University of Palermo –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alermo -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2. Istituto di Calcolo e Reti ad Alte Prestazioni (ICAR) Consiglio Nazionale delle Ricerche (CNR) – Palermo -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49334" t="0" r="35553" b="22028"/>
          <a:stretch/>
        </p:blipFill>
        <p:spPr>
          <a:xfrm>
            <a:off x="7020000" y="192240"/>
            <a:ext cx="1584360" cy="1535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0" r="54120" b="0"/>
          <a:stretch/>
        </p:blipFill>
        <p:spPr>
          <a:xfrm>
            <a:off x="360360" y="115920"/>
            <a:ext cx="2916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981000"/>
            <a:ext cx="8964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360" y="4005360"/>
            <a:ext cx="7416720" cy="269856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2087640"/>
            <a:ext cx="7416720" cy="2205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320" y="1008000"/>
            <a:ext cx="7419960" cy="108432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1062000"/>
          <a:ext cx="8142120" cy="55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2000"/>
                    <a:ext cx="8142120" cy="55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7164360" y="692280"/>
            <a:ext cx="28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213840"/>
            <a:ext cx="82594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The Resulting Agile PASSI MM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3933720"/>
            <a:ext cx="2089440" cy="1297080"/>
          </a:xfrm>
          <a:prstGeom prst="wedgeRectCallout">
            <a:avLst>
              <a:gd name="adj1" fmla="val 38069"/>
              <a:gd name="adj2" fmla="val -102263"/>
            </a:avLst>
          </a:prstGeom>
          <a:solidFill>
            <a:srgbClr val="0000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In the new MMM the agent is designed in a semplified way, without defining 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2205000"/>
            <a:ext cx="352908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ASSI and AgilePASSI MMMs are splitted in three are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gilePASSI MMM is a subset of PASSI MM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ome elements are defined in a simplified 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4360" y="3213000"/>
          <a:ext cx="8065800" cy="1847880"/>
        </p:xfrm>
        <a:graphic>
          <a:graphicData uri="http://schemas.openxmlformats.org/drawingml/2006/table">
            <a:tbl>
              <a:tblPr/>
              <a:tblGrid>
                <a:gridCol w="3241080"/>
                <a:gridCol w="935280"/>
                <a:gridCol w="388944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 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er’s probl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ncy 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ent based 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tion Dom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de level 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e PASSI MAS Meta-Model (MMM) stru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e PASSI MAS Meta-Model el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e Agile PASSI MAS Meta-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The PASSI MMM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2060640"/>
            <a:ext cx="6696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tructure of the PASSI MAS Meta-Model addresses three logical are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Domain deals with the user's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gency Domain contains the components of the agent-based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olution Domain describes the structure of the code solution in the chosen FIPA-compliant implementation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875640" y="4581360"/>
            <a:ext cx="2017440" cy="938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roblem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080" y="2421000"/>
            <a:ext cx="2017800" cy="93816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olut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3500280"/>
            <a:ext cx="2017800" cy="9385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Agency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The PASSI MMM elemen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826920"/>
          <a:ext cx="8637480" cy="59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826920"/>
                    <a:ext cx="863748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roblem Dom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3571560"/>
            <a:ext cx="838836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Domain deals with the user's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enario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ment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tology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-1440"/>
          <a:ext cx="9144000" cy="35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"/>
                    <a:ext cx="9144000" cy="35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98100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Problem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3645000"/>
            <a:ext cx="5113440" cy="1655640"/>
          </a:xfrm>
          <a:prstGeom prst="wedgeRectCallout">
            <a:avLst>
              <a:gd name="adj1" fmla="val -73625"/>
              <a:gd name="adj2" fmla="val -56425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quirem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presents a feature that the system to be must exhibit, it can be a functional requirement (like a service) or a non-functional requirement (such as a constraint on the system performa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005360"/>
            <a:ext cx="4788000" cy="2448000"/>
          </a:xfrm>
          <a:prstGeom prst="wedgeRectCallout">
            <a:avLst>
              <a:gd name="adj1" fmla="val 89722"/>
              <a:gd name="adj2" fmla="val -65629"/>
            </a:avLst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ntolog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concept, action and predic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SSI ontology is an explicit specification of the structure of the Problem domain.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ncep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re entities and categories of the domain; the status of concepts is changed by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rformed in the domain;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dicate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ert something about a portion of the domain elements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637000"/>
            <a:ext cx="2592720" cy="936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91160" y="985680"/>
            <a:ext cx="1216080" cy="2587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26028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Ag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4076640"/>
            <a:ext cx="2917800" cy="1368360"/>
          </a:xfrm>
          <a:prstGeom prst="wedgeRectCallout">
            <a:avLst>
              <a:gd name="adj1" fmla="val -34546"/>
              <a:gd name="adj2" fmla="val -86888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Resource: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concrete, tangible entity that can be acquired, shared, or produced by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637000"/>
            <a:ext cx="1042920" cy="936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9280" y="3211560"/>
            <a:ext cx="838836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gency Domain contains the components of the agent-based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sk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on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549360"/>
          <a:ext cx="871380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549360"/>
                    <a:ext cx="87138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79280" y="0"/>
            <a:ext cx="165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Agency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3284640"/>
            <a:ext cx="2089080" cy="31687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00" y="476280"/>
            <a:ext cx="1162080" cy="93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476280"/>
            <a:ext cx="1441440" cy="93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76280"/>
            <a:ext cx="1225440" cy="936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700280"/>
            <a:ext cx="122400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11280" y="1773360"/>
            <a:ext cx="2016360" cy="100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924280"/>
            <a:ext cx="8064360" cy="3673440"/>
          </a:xfrm>
          <a:prstGeom prst="wedgeRectCallout">
            <a:avLst>
              <a:gd name="adj1" fmla="val -49902"/>
              <a:gd name="adj2" fmla="val -90578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g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autonomous entity capable of pursuing an objective through its autonomous decisions, actions and social relationships. More in details, an Agent is an entity whi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 capable of actions in an environ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n communicate directly with other ag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 driven by a set of functionalities it has to accomplis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esses resources of its ow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capable of perceiving its environ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s only a partial representation of this environment (knowledg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offer servic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lay several different ro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03280" y="2492280"/>
            <a:ext cx="4032360" cy="2016360"/>
          </a:xfrm>
          <a:prstGeom prst="wedgeRectCallout">
            <a:avLst>
              <a:gd name="adj1" fmla="val -22087"/>
              <a:gd name="adj2" fmla="val -101416"/>
            </a:avLst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agent during its life plays some roles. 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ro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 portion of the social behaviour of an agent that is characterized by a goal (accomplishing some specific functionality) and/or provides a serv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95640" y="2492280"/>
            <a:ext cx="4824360" cy="2087640"/>
          </a:xfrm>
          <a:prstGeom prst="wedgeRectCallout">
            <a:avLst>
              <a:gd name="adj1" fmla="val -39041"/>
              <a:gd name="adj2" fmla="val -102777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ask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specifies the computation that generates the effects of the behavioural feature. Its granularity addresses the significance of a non decomposable group of atomic actions. These cannot be directly addressed without referring to their belonging ta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500280"/>
            <a:ext cx="2449800" cy="1584360"/>
          </a:xfrm>
          <a:prstGeom prst="wedgeRectCallout">
            <a:avLst>
              <a:gd name="adj1" fmla="val -36064"/>
              <a:gd name="adj2" fmla="val -95893"/>
            </a:avLst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rvice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when playing a role, an agent may provide a functionality/service to other ag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3500280"/>
            <a:ext cx="2592360" cy="1152720"/>
          </a:xfrm>
          <a:prstGeom prst="wedgeRectCallout">
            <a:avLst>
              <a:gd name="adj1" fmla="val -36833"/>
              <a:gd name="adj2" fmla="val -113083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SSI adopts a FIPA-compliant structure fo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communic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2920" y="1094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ahoma"/>
              </a:rPr>
              <a:t>Solution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476280"/>
          <a:ext cx="9144000" cy="22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22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588000" y="1700280"/>
            <a:ext cx="20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Ag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299736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olution Domain describes the structure of the code solution in the chosen FIPA-compliant implementation pla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PA Agent class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PA Task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2360" y="1989000"/>
            <a:ext cx="2592360" cy="1368720"/>
          </a:xfrm>
          <a:prstGeom prst="wedgeRectCallout">
            <a:avLst>
              <a:gd name="adj1" fmla="val -38856"/>
              <a:gd name="adj2" fmla="val -105337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oftware class that implements the Agent in the selected (FIPA)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04640"/>
            <a:ext cx="1584360" cy="863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04640"/>
            <a:ext cx="1584360" cy="863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03640" y="1989000"/>
            <a:ext cx="2448000" cy="1368720"/>
          </a:xfrm>
          <a:prstGeom prst="wedgeRectCallout">
            <a:avLst>
              <a:gd name="adj1" fmla="val -30481"/>
              <a:gd name="adj2" fmla="val -95361"/>
            </a:avLst>
          </a:prstGeom>
          <a:solidFill>
            <a:srgbClr val="ffc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software class that implements the Task in the selected (FIPA)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Agile PASSI Desig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863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t derives from PAS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t is an agil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asy to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de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t is composed by reusing parts of existing processes (method fragments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thod engineering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gile methodologies principles and tec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From PASSI MMM to Agile PASSI MM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831960"/>
          <a:ext cx="9180360" cy="59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1960"/>
                    <a:ext cx="918036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2987640" y="4724280"/>
            <a:ext cx="936720" cy="649440"/>
            <a:chOff x="2987640" y="4724280"/>
            <a:chExt cx="936720" cy="649440"/>
          </a:xfrm>
        </p:grpSpPr>
        <p:sp>
          <p:nvSpPr>
            <p:cNvPr id="164" name=""/>
            <p:cNvSpPr/>
            <p:nvPr/>
          </p:nvSpPr>
          <p:spPr>
            <a:xfrm>
              <a:off x="2987640" y="4724280"/>
              <a:ext cx="9367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87640" y="4724280"/>
              <a:ext cx="9367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258920" y="5949720"/>
            <a:ext cx="900000" cy="719280"/>
            <a:chOff x="1258920" y="5949720"/>
            <a:chExt cx="900000" cy="719280"/>
          </a:xfrm>
        </p:grpSpPr>
        <p:sp>
          <p:nvSpPr>
            <p:cNvPr id="167" name=""/>
            <p:cNvSpPr/>
            <p:nvPr/>
          </p:nvSpPr>
          <p:spPr>
            <a:xfrm>
              <a:off x="1258920" y="5950080"/>
              <a:ext cx="900000" cy="71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258920" y="5949720"/>
              <a:ext cx="900000" cy="71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843280" y="3500280"/>
            <a:ext cx="936720" cy="649440"/>
            <a:chOff x="2843280" y="3500280"/>
            <a:chExt cx="936720" cy="649440"/>
          </a:xfrm>
        </p:grpSpPr>
        <p:sp>
          <p:nvSpPr>
            <p:cNvPr id="170" name=""/>
            <p:cNvSpPr/>
            <p:nvPr/>
          </p:nvSpPr>
          <p:spPr>
            <a:xfrm>
              <a:off x="2843280" y="3500280"/>
              <a:ext cx="9367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843280" y="3500280"/>
              <a:ext cx="93672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35280" y="2422440"/>
            <a:ext cx="1008000" cy="719280"/>
            <a:chOff x="3635280" y="2422440"/>
            <a:chExt cx="1008000" cy="719280"/>
          </a:xfrm>
        </p:grpSpPr>
        <p:sp>
          <p:nvSpPr>
            <p:cNvPr id="173" name=""/>
            <p:cNvSpPr/>
            <p:nvPr/>
          </p:nvSpPr>
          <p:spPr>
            <a:xfrm>
              <a:off x="3635280" y="2422440"/>
              <a:ext cx="1008000" cy="719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635280" y="2422440"/>
              <a:ext cx="1008000" cy="719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59640" y="2492280"/>
            <a:ext cx="865080" cy="649440"/>
            <a:chOff x="6659640" y="2492280"/>
            <a:chExt cx="865080" cy="649440"/>
          </a:xfrm>
        </p:grpSpPr>
        <p:sp>
          <p:nvSpPr>
            <p:cNvPr id="176" name=""/>
            <p:cNvSpPr/>
            <p:nvPr/>
          </p:nvSpPr>
          <p:spPr>
            <a:xfrm>
              <a:off x="6659640" y="2492280"/>
              <a:ext cx="86508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659640" y="2492280"/>
              <a:ext cx="86508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6360" y="2997360"/>
            <a:ext cx="2303640" cy="2952720"/>
          </a:xfrm>
          <a:prstGeom prst="wedgeRectCallout">
            <a:avLst>
              <a:gd name="adj1" fmla="val 36078"/>
              <a:gd name="adj2" fmla="val -12365"/>
            </a:avLst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ccording to the Agile Alliance principles, scenarios are replaced by user stories (described in an informal wa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order to shorten the design process we decided to bypass roles defin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1:11:35Z</dcterms:created>
  <dc:creator>LuKa</dc:creator>
  <dc:description/>
  <cp:keywords/>
  <dc:language>en-US</dc:language>
  <cp:lastModifiedBy>LuKa</cp:lastModifiedBy>
  <dcterms:modified xsi:type="dcterms:W3CDTF">2005-02-25T17:13:23Z</dcterms:modified>
  <cp:revision>30</cp:revision>
  <dc:subject/>
  <dc:title>PASSI and Agile PASS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40</vt:lpwstr>
  </property>
</Properties>
</file>